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69925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285-C72E-4D45-992B-A54CE39C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602460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6240" y="2414160"/>
            <a:ext cx="602460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B2C-DE05-418D-BAD8-96029D08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6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3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57F-CBEA-422F-9CEB-82A60B2A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73120" y="97452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10360" y="97452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6240" y="241416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73120" y="241416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10360" y="241416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927-8841-4F06-87C8-9912713A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6240" y="974520"/>
            <a:ext cx="6024600" cy="27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E25-DBD5-4550-BAEB-F9111900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602460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137-9B39-421B-A862-D3D6A774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787-40E7-433F-9507-CF383F40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4A8-F50C-4AE9-8F43-15C0860D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6240" y="166680"/>
            <a:ext cx="602460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671-D745-47CC-BEC6-BAFE7E5B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6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A8F-EE0E-4C5A-941B-9AACA63B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3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1D7-B731-43B6-88A1-8F19BF16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6240" y="2414160"/>
            <a:ext cx="602460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4E8-C9B9-4833-87A1-7524C577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974520"/>
            <a:ext cx="602460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 fontScale="97000"/>
          </a:bodyPr>
          <a:p>
            <a:pPr marL="2260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9240" indent="-187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150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54800" indent="-150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56480" indent="-150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56480" indent="-150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56480" indent="-150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6240" y="3803400"/>
            <a:ext cx="1560600" cy="2905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lstStyle>
            <a:lvl1pPr indent="0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8880" y="3803400"/>
            <a:ext cx="2119320" cy="2905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240" y="3803400"/>
            <a:ext cx="1560600" cy="2905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fld id="{6811FEBC-80DE-4CA2-A23B-93490D6547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1440"/>
            <a:ext cx="6705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8:54:01Z</dcterms:created>
  <dc:creator>MSO</dc:creator>
  <dc:description/>
  <dc:language>en-US</dc:language>
  <cp:lastModifiedBy>MSO</cp:lastModifiedBy>
  <dcterms:modified xsi:type="dcterms:W3CDTF">2006-12-15T18:57:20Z</dcterms:modified>
  <cp:revision>1</cp:revision>
  <dc:subject/>
  <dc:title>Slide 1</dc:title>
</cp:coreProperties>
</file>